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228-96AD-49AB-83B5-4FC7115E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4D0-0F23-440C-8E89-C77E3B2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66C-8E0F-423B-B5FB-E8BB3FE1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59A-BC39-48D3-97AC-6EC04932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247-8F5B-4422-9DDF-3203486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E50-07CE-44D5-BFB3-37C94B06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A62-1E36-4D42-8CAC-805CEBEF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963-AA2A-430C-B283-2001691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821-22E7-47B8-B3F9-4C1AACFE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8F0-5CC7-4A62-9263-FF3537C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B3D-F9EF-45D9-8202-4BF89BF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66B-7B83-42BA-8CCD-1FB974BA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95E-8B7A-4268-AEB6-8443B4B30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ayon-frame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Kozuka Mincho Pro M"/>
              </a:rPr>
              <a:t>How to be emphatic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ozuka Mincho Pro M"/>
              </a:rPr>
              <a:t>In Conditional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Should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I meet him today, I will tell him about you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we away from home, we would miss our nearest and dea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Had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n’t Mendeleev dreamed about the periodic table, it would have taken much time to inv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ozuka Mincho Pro M"/>
              </a:rPr>
              <a:t>To express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So, neither/nor,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 don’t like sushi. –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Neither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Mary hasn’t invited Tom. –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Nor have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 want to see Jared Leto live! –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So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I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His colleagues respected him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as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did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his b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ozuka Mincho Pro M"/>
              </a:rPr>
              <a:t>After adverbs of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Here comes the br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Away ran the burgl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ozuka Mincho Pro M"/>
              </a:rPr>
              <a:t>In direct speech after the quote where the subject is a no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«I’ve never seen him», said H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Kozuka Mincho Pro M"/>
              </a:rPr>
              <a:t>Emphatic structures as they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It is/was (not) + Subject/Object/Location + that/who(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was the principle who organised the school conce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is the TV that wakes me up ever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was I/me who spoiled the par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was they/them that cam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as it here that you met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ozuka Mincho Pro M"/>
              </a:rPr>
              <a:t>That is/was + question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That’s what he told the po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That was the place we were supposed to meet 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s that where she’s living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as that why he resig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ozuka Mincho Pro M"/>
              </a:rPr>
              <a:t>Question word + is/was it+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Kozuka Mincho Pro M"/>
              </a:rPr>
              <a:t>(works with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o was it THAT sent you flo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ere is it </a:t>
            </a:r>
            <a:r>
              <a:rPr b="0" lang="en-US" sz="2400" spc="-1" strike="noStrike">
                <a:solidFill>
                  <a:srgbClr val="000000"/>
                </a:solidFill>
                <a:latin typeface="Kozuka Mincho Pro M"/>
              </a:rPr>
              <a:t>that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you are planning to go on va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Kozuka Mincho Pro M"/>
              </a:rPr>
              <a:t>Question word+Subject+Verb+is/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at I need is some good ad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at I hate is your breaking prom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Kozuka Mincho Pro M"/>
              </a:rPr>
              <a:t>Question word +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(to emphasise emo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oever did you talk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atever are you doing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erever did you fin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enever you called me, I would come to hel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Present/Past Simple or Imperative Mood + DO/DOES/DID + BARE infi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love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He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id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tell me he was lea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id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need your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He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es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care for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sit down, plea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ozuka Mincho Pro M"/>
              </a:rPr>
              <a:t>NB</a:t>
            </a:r>
            <a:r>
              <a:rPr b="0" i="1" lang="ru-RU" sz="2400" spc="-1" strike="noStrike">
                <a:solidFill>
                  <a:srgbClr val="000000"/>
                </a:solidFill>
                <a:latin typeface="Kozuka Mincho Pro M"/>
              </a:rPr>
              <a:t>: In Russian it will be translated as </a:t>
            </a:r>
            <a:r>
              <a:rPr b="0" i="1" lang="ru-RU" sz="2400" spc="-1" strike="noStrike">
                <a:solidFill>
                  <a:srgbClr val="000000"/>
                </a:solidFill>
                <a:latin typeface="Bradley Hand ITC"/>
              </a:rPr>
              <a:t>на самом деле, все же, правда, действительно и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Kozuka Mincho Pro M"/>
              </a:rPr>
              <a:t>Inver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We exchange the positions of the </a:t>
            </a: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Subject 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and the </a:t>
            </a: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Auxillary Verb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in the sentence to give emph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Kozuka Mincho Pro M"/>
              </a:rPr>
              <a:t>Certain expressions at the beginning of th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Seldom/Rar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Scarcely (ever)…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Hardly (ever)…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 sooner…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t only…but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Litt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Bare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w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t till/unti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n no w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n/Under no circumstan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ever (befor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t even on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On no occas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On no accou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Only in this w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r…/neith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af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if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when.. (+ inversion in the main cl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Not si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+ af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So, such, to such a deg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Kozuka Mincho Pro M"/>
              </a:rPr>
              <a:t>Need 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Not only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they attach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importance to this idea, but also make an attempt to put it into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Rarely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 we se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him these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No sooner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had we got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into the house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than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he phoned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Only after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he </a:t>
            </a:r>
            <a:r>
              <a:rPr b="0" lang="en-US" sz="2400" spc="-1" strike="noStrike">
                <a:solidFill>
                  <a:srgbClr val="000000"/>
                </a:solidFill>
                <a:latin typeface="Kozuka Mincho Pro M"/>
              </a:rPr>
              <a:t>had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graduated,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id he start looking for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a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Only if you invite her,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will she com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o the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Not until all the tests had been completed,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were we told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So careful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is sh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hat she never makes any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Such a brilliant student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was h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hat he was offered a schola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37:44Z</dcterms:created>
  <dc:creator>Elizaveta</dc:creator>
  <dc:description/>
  <dc:language>en-US</dc:language>
  <cp:lastModifiedBy>Lizzie</cp:lastModifiedBy>
  <dcterms:modified xsi:type="dcterms:W3CDTF">2012-10-24T11:35:15Z</dcterms:modified>
  <cp:revision>14</cp:revision>
  <dc:subject/>
  <dc:title>How to be emphatic?</dc:title>
</cp:coreProperties>
</file>